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327-259B-4A6F-82A0-F52C4F9D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F1D-6650-492C-9F41-3F4D1F0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1F6-D94B-4C6E-8010-0A865872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26A-114E-414F-81ED-691110EC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992-0957-4008-A54A-76E4E72A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1BB-239C-49E5-998D-FD68840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10A-8753-42E0-B38F-D6171CDD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E41-DEE4-43B9-8A40-1B855298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A2C-7B34-4709-AF9F-BA66248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8C9-DCF6-4781-9322-EEEF0FB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F75-4EBF-4AEF-8B3F-A11E6A3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D86-C553-4DD7-B279-216D930A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FD4-4CA0-4D6F-9EF3-9E6799F0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280" y="2286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0280" y="1447920"/>
            <a:ext cx="18954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ug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2600" y="4997520"/>
            <a:ext cx="1197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75880" y="5029200"/>
            <a:ext cx="1386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84960" y="3505320"/>
            <a:ext cx="1386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752120" y="2286000"/>
            <a:ext cx="16765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286000"/>
            <a:ext cx="160020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666880" y="5410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37920" y="4114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41911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32280" y="3276720"/>
            <a:ext cx="20750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1. Gene 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rrelated with drug phen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&lt;0.0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9960" y="2514600"/>
            <a:ext cx="20750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2. miRNA 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rrelated with drug phen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&lt;0.0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9240" y="4343400"/>
            <a:ext cx="18280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3. Inverse corre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etween miRNA and m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0.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83200" y="5486400"/>
            <a:ext cx="21618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4. SNPs cis/trans-regul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ene 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0.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15800" y="4343400"/>
            <a:ext cx="16833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5. SNPs associ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ith mi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&lt;0.0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53680" y="3200400"/>
            <a:ext cx="16833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ep 6. SNPs associ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ith drug phen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P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0.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</cp:lastModifiedBy>
  <dcterms:modified xsi:type="dcterms:W3CDTF">2013-08-06T16:14:1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